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A14CE5-94EF-4A6E-8340-E8FD040C3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NeuroScholar in the backgrou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 for Arshad’s diagram as the first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constructing the schema and ‘mental hygin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6C7-9C84-45CC-8655-C70BDCAF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546-F951-4F7D-90F7-E96168C4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AB2-A3E4-45AB-B575-3C8537C4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122-CA54-4F34-9A09-1321C98B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14C7-7662-4AB3-B27E-6EAC8EA6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F5B6-D767-49C7-8FCC-DD2A70BD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C1D2-8071-4AE1-A2A6-1721E8B1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501B-EE15-4033-9913-EC64FF66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33C3-59A2-4730-BB83-CE9CD30E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D73C-F2B9-48A8-B602-6EC629C4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4F3D-F1CA-4BF9-B011-F16E70A1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298-FDD7-4D24-8195-4DFCE2AC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4DFF-B173-4A2D-9FF1-B2A91171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E1A5-371F-4242-BD4E-23E61926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B85D-A1C3-4155-8EBE-9CBF5C33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15C1-4005-477A-9E1C-ED3E43D4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CCB1-60C6-45DC-9DA2-B4D362A6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40D-794D-4051-96D1-34738D48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B9A-10D4-4914-868B-FFECF94B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1E7-3BC4-42E1-AE03-AEBA921E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F42-1D9B-43AF-B275-EF1447E5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1FF-3D8F-4555-894B-33B48B87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C2C-2FB9-4755-B762-79E168B8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644-E117-4A56-8336-982DF04C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DF70-42B4-48E1-81CD-C80C814AF609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6C20-BE52-48F5-9471-EC5E2699DEC1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00040"/>
            <a:ext cx="4724280" cy="15336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400040"/>
            <a:ext cx="4724280" cy="153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144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2120" y="1062000"/>
            <a:ext cx="579096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Engineering approaches based on semi-automated curation of the primary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192560"/>
            <a:ext cx="73915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Gully APC Burns, Tommy Ingulfsen, Donghui Feng and Ed Hovy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92929"/>
                </a:solidFill>
                <a:latin typeface="Arial"/>
              </a:rPr>
              <a:t>Biomedical Knowledge Engineering Group,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92929"/>
                </a:solidFill>
                <a:latin typeface="Arial"/>
              </a:rPr>
              <a:t>Information Sciences Institute,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92929"/>
                </a:solidFill>
                <a:latin typeface="Arial"/>
              </a:rPr>
              <a:t>University of Southern California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024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all, Precision and F-S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276720" y="1944720"/>
            <a:ext cx="2103480" cy="1560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85800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eld Labeling Results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ll label lev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62120" y="2647800"/>
          <a:ext cx="7619400" cy="2685960"/>
        </p:xfrm>
        <a:graphic>
          <a:graphicData uri="http://schemas.openxmlformats.org/drawingml/2006/table">
            <a:tbl>
              <a:tblPr/>
              <a:tblGrid>
                <a:gridCol w="3516120"/>
                <a:gridCol w="1399680"/>
                <a:gridCol w="1392840"/>
                <a:gridCol w="131076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System Feature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Precision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Recall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F-Score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Baseline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392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167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234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5689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3771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453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 + Surface Word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415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6817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10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 + Surface Words + Window Word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84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039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420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 + Surface + Window  Words + Dependency features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75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347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54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4648320"/>
            <a:ext cx="11430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2680" y="5562720"/>
            <a:ext cx="432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Preliminary data from a training set of 14 documents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+ testing on 16 documents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124160" cy="20829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504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eld Labeling Results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usion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67040" y="4038480"/>
            <a:ext cx="4572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4038480"/>
            <a:ext cx="4572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7" idx="0"/>
            <a:endCxn id="388" idx="0"/>
          </p:cNvCxnSpPr>
          <p:nvPr/>
        </p:nvCxnSpPr>
        <p:spPr>
          <a:xfrm flipH="1" rot="16200000">
            <a:off x="2773440" y="3451320"/>
            <a:ext cx="2160" cy="1157400"/>
          </a:xfrm>
          <a:prstGeom prst="curvedConnector5">
            <a:avLst>
              <a:gd name="adj1" fmla="val -13800000"/>
              <a:gd name="adj2" fmla="val 50000"/>
              <a:gd name="adj3" fmla="val -138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1967040" y="4543560"/>
            <a:ext cx="4572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87" idx="2"/>
            <a:endCxn id="390" idx="2"/>
          </p:cNvCxnSpPr>
          <p:nvPr/>
        </p:nvCxnSpPr>
        <p:spPr>
          <a:xfrm flipH="1" flipV="1" rot="10800000">
            <a:off x="1956240" y="4152600"/>
            <a:ext cx="2520" cy="505440"/>
          </a:xfrm>
          <a:prstGeom prst="curvedConnector5">
            <a:avLst>
              <a:gd name="adj1" fmla="val -13800000"/>
              <a:gd name="adj2" fmla="val 49964"/>
              <a:gd name="adj3" fmla="val -13800000"/>
            </a:avLst>
          </a:prstGeom>
          <a:ln w="19080">
            <a:solidFill>
              <a:srgbClr val="ff0000"/>
            </a:solidFill>
            <a:miter/>
          </a:ln>
        </p:spPr>
      </p:cxn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591080" y="2070000"/>
            <a:ext cx="4113360" cy="440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izing the methodology: ‘Histology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066680" y="1600200"/>
          <a:ext cx="68580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68580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656600" y="6400800"/>
            <a:ext cx="41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from Gonzalo-Ruiz et al 1992, JCN 321: 300-311]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gical structure of a tract-tracing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cer Chemical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jection Site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beled region [1...*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psi-contra relative to injection site?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typ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dens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01720" y="2825640"/>
            <a:ext cx="3232080" cy="1227960"/>
            <a:chOff x="5301720" y="2825640"/>
            <a:chExt cx="3232080" cy="1227960"/>
          </a:xfrm>
        </p:grpSpPr>
        <p:grpSp>
          <p:nvGrpSpPr>
            <p:cNvPr id="400" name=""/>
            <p:cNvGrpSpPr/>
            <p:nvPr/>
          </p:nvGrpSpPr>
          <p:grpSpPr>
            <a:xfrm>
              <a:off x="5301720" y="3137760"/>
              <a:ext cx="1008720" cy="915840"/>
              <a:chOff x="5301720" y="3137760"/>
              <a:chExt cx="1008720" cy="915840"/>
            </a:xfrm>
          </p:grpSpPr>
          <p:sp>
            <p:nvSpPr>
              <p:cNvPr id="401" name=""/>
              <p:cNvSpPr/>
              <p:nvPr/>
            </p:nvSpPr>
            <p:spPr>
              <a:xfrm>
                <a:off x="5658120" y="3480120"/>
                <a:ext cx="652320" cy="573480"/>
              </a:xfrm>
              <a:custGeom>
                <a:avLst/>
                <a:gdLst/>
                <a:ahLst/>
                <a:rect l="l" t="t" r="r" b="b"/>
                <a:pathLst>
                  <a:path w="728" h="448">
                    <a:moveTo>
                      <a:pt x="248" y="8"/>
                    </a:moveTo>
                    <a:cubicBezTo>
                      <a:pt x="160" y="0"/>
                      <a:pt x="192" y="24"/>
                      <a:pt x="152" y="56"/>
                    </a:cubicBezTo>
                    <a:cubicBezTo>
                      <a:pt x="112" y="88"/>
                      <a:pt x="16" y="168"/>
                      <a:pt x="8" y="200"/>
                    </a:cubicBezTo>
                    <a:cubicBezTo>
                      <a:pt x="0" y="232"/>
                      <a:pt x="88" y="216"/>
                      <a:pt x="104" y="248"/>
                    </a:cubicBezTo>
                    <a:cubicBezTo>
                      <a:pt x="120" y="280"/>
                      <a:pt x="80" y="360"/>
                      <a:pt x="104" y="392"/>
                    </a:cubicBezTo>
                    <a:cubicBezTo>
                      <a:pt x="128" y="424"/>
                      <a:pt x="176" y="448"/>
                      <a:pt x="248" y="440"/>
                    </a:cubicBezTo>
                    <a:cubicBezTo>
                      <a:pt x="320" y="432"/>
                      <a:pt x="464" y="400"/>
                      <a:pt x="536" y="344"/>
                    </a:cubicBezTo>
                    <a:cubicBezTo>
                      <a:pt x="608" y="288"/>
                      <a:pt x="728" y="160"/>
                      <a:pt x="680" y="104"/>
                    </a:cubicBezTo>
                    <a:cubicBezTo>
                      <a:pt x="632" y="48"/>
                      <a:pt x="336" y="16"/>
                      <a:pt x="248" y="8"/>
                    </a:cubicBezTo>
                    <a:close/>
                  </a:path>
                </a:pathLst>
              </a:custGeom>
              <a:solidFill>
                <a:srgbClr val="cc9900">
                  <a:alpha val="50000"/>
                </a:srgbClr>
              </a:solidFill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13360" y="3901680"/>
                <a:ext cx="50400" cy="50040"/>
              </a:xfrm>
              <a:custGeom>
                <a:avLst/>
                <a:gdLst>
                  <a:gd name="textAreaLeft" fmla="*/ 11880 w 50400"/>
                  <a:gd name="textAreaRight" fmla="*/ 38520 w 50400"/>
                  <a:gd name="textAreaTop" fmla="*/ 5760 h 50040"/>
                  <a:gd name="textAreaBottom" fmla="*/ 31320 h 500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301720" y="3137760"/>
                <a:ext cx="513720" cy="646200"/>
                <a:chOff x="5301720" y="3137760"/>
                <a:chExt cx="513720" cy="646200"/>
              </a:xfrm>
            </p:grpSpPr>
            <p:sp>
              <p:nvSpPr>
                <p:cNvPr id="404" name=""/>
                <p:cNvSpPr/>
                <p:nvPr/>
              </p:nvSpPr>
              <p:spPr>
                <a:xfrm flipH="1" flipV="1">
                  <a:off x="5404320" y="3137760"/>
                  <a:ext cx="410760" cy="64620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301720" y="3246120"/>
                  <a:ext cx="513720" cy="53784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506920" y="3461040"/>
                  <a:ext cx="307800" cy="32292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28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7c042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" name=""/>
            <p:cNvGrpSpPr/>
            <p:nvPr/>
          </p:nvGrpSpPr>
          <p:grpSpPr>
            <a:xfrm>
              <a:off x="5482440" y="2825640"/>
              <a:ext cx="3051360" cy="1194120"/>
              <a:chOff x="5482440" y="2825640"/>
              <a:chExt cx="3051360" cy="1194120"/>
            </a:xfrm>
          </p:grpSpPr>
          <p:sp>
            <p:nvSpPr>
              <p:cNvPr id="408" name=""/>
              <p:cNvSpPr/>
              <p:nvPr/>
            </p:nvSpPr>
            <p:spPr>
              <a:xfrm>
                <a:off x="7765920" y="3249000"/>
                <a:ext cx="767880" cy="770760"/>
              </a:xfrm>
              <a:custGeom>
                <a:avLst/>
                <a:gdLst/>
                <a:ahLst/>
                <a:rect l="l" t="t" r="r" b="b"/>
                <a:pathLst>
                  <a:path w="800" h="904">
                    <a:moveTo>
                      <a:pt x="168" y="128"/>
                    </a:moveTo>
                    <a:cubicBezTo>
                      <a:pt x="96" y="184"/>
                      <a:pt x="0" y="272"/>
                      <a:pt x="24" y="368"/>
                    </a:cubicBezTo>
                    <a:cubicBezTo>
                      <a:pt x="48" y="464"/>
                      <a:pt x="208" y="616"/>
                      <a:pt x="312" y="704"/>
                    </a:cubicBezTo>
                    <a:cubicBezTo>
                      <a:pt x="416" y="792"/>
                      <a:pt x="568" y="904"/>
                      <a:pt x="648" y="896"/>
                    </a:cubicBezTo>
                    <a:cubicBezTo>
                      <a:pt x="728" y="888"/>
                      <a:pt x="784" y="752"/>
                      <a:pt x="792" y="656"/>
                    </a:cubicBezTo>
                    <a:cubicBezTo>
                      <a:pt x="800" y="560"/>
                      <a:pt x="752" y="424"/>
                      <a:pt x="696" y="320"/>
                    </a:cubicBezTo>
                    <a:cubicBezTo>
                      <a:pt x="640" y="216"/>
                      <a:pt x="544" y="64"/>
                      <a:pt x="456" y="32"/>
                    </a:cubicBezTo>
                    <a:cubicBezTo>
                      <a:pt x="368" y="0"/>
                      <a:pt x="240" y="72"/>
                      <a:pt x="168" y="128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14520" y="282564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91800" y="329112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6584400" y="3361680"/>
                <a:ext cx="101520" cy="305280"/>
                <a:chOff x="6584400" y="3361680"/>
                <a:chExt cx="101520" cy="305280"/>
              </a:xfrm>
            </p:grpSpPr>
            <p:sp>
              <p:nvSpPr>
                <p:cNvPr id="412" name=""/>
                <p:cNvSpPr/>
                <p:nvPr/>
              </p:nvSpPr>
              <p:spPr>
                <a:xfrm flipH="1">
                  <a:off x="6584400" y="336204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flipV="1">
                  <a:off x="6584400" y="336132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821560" y="2896200"/>
                <a:ext cx="2606760" cy="1021320"/>
                <a:chOff x="5821560" y="2896200"/>
                <a:chExt cx="2606760" cy="102132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6125760" y="3018960"/>
                  <a:ext cx="2302560" cy="816840"/>
                  <a:chOff x="6125760" y="3018960"/>
                  <a:chExt cx="2302560" cy="8168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612576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18488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28856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28280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722520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25400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31160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30584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34616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18676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21556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813204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814068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823284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819252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32500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826740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822132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080400" y="3100680"/>
                  <a:ext cx="2301480" cy="816840"/>
                  <a:chOff x="6080400" y="3100680"/>
                  <a:chExt cx="2301480" cy="8168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080400" y="360216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139160" y="315180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242480" y="315684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237080" y="310068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179480" y="31924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8280" y="320796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265520" y="31258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260120" y="318744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300440" y="321840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140680" y="368928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69120" y="373536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085600" y="355608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8094600" y="358092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8186400" y="353556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8146080" y="376092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8278560" y="382212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8220960" y="376092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8175240" y="364824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6034680" y="2896200"/>
                  <a:ext cx="2301480" cy="816840"/>
                  <a:chOff x="6034680" y="2896200"/>
                  <a:chExt cx="2301480" cy="81684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6034680" y="339768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093440" y="294732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196760" y="295236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191360" y="289620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133760" y="29880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162560" y="300348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219800" y="29214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214400" y="298296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254720" y="301392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094960" y="348480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8123400" y="353088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8039880" y="335160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8048880" y="337644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8140680" y="333108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8100360" y="355644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8232840" y="361764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8175240" y="355644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8129520" y="344376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5987880" y="3018960"/>
                  <a:ext cx="2302560" cy="816840"/>
                  <a:chOff x="5987880" y="3018960"/>
                  <a:chExt cx="2302560" cy="81684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598788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04700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15068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14492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8732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11612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17372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16796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20828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804888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807768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99416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800280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809496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05464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818712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812952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8344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5895360" y="2936520"/>
                  <a:ext cx="2302560" cy="816840"/>
                  <a:chOff x="5895360" y="2936520"/>
                  <a:chExt cx="2302560" cy="8168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5895360" y="343800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954480" y="298764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058160" y="299268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052400" y="293652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994800" y="30283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023600" y="304380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081200" y="29617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075440" y="302328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115760" y="305424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956360" y="352512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985160" y="357120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901640" y="339192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910280" y="341676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002440" y="337140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962120" y="359676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8094600" y="365796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8037000" y="359676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990920" y="348408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5821560" y="3549240"/>
                  <a:ext cx="350640" cy="326880"/>
                  <a:chOff x="5821560" y="3549240"/>
                  <a:chExt cx="350640" cy="326880"/>
                </a:xfrm>
              </p:grpSpPr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821560" y="3595680"/>
                    <a:ext cx="102600" cy="106560"/>
                    <a:chOff x="5821560" y="3595680"/>
                    <a:chExt cx="102600" cy="10656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5850000" y="3630960"/>
                      <a:ext cx="45360" cy="40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5821560" y="3595680"/>
                      <a:ext cx="568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66">
                          <a:moveTo>
                            <a:pt x="60" y="66"/>
                          </a:moveTo>
                          <a:cubicBezTo>
                            <a:pt x="49" y="55"/>
                            <a:pt x="34" y="48"/>
                            <a:pt x="24" y="36"/>
                          </a:cubicBezTo>
                          <a:cubicBezTo>
                            <a:pt x="15" y="25"/>
                            <a:pt x="0" y="0"/>
                            <a:pt x="0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5884200" y="3595680"/>
                      <a:ext cx="1692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4">
                          <a:moveTo>
                            <a:pt x="0" y="54"/>
                          </a:moveTo>
                          <a:cubicBezTo>
                            <a:pt x="7" y="33"/>
                            <a:pt x="18" y="22"/>
                            <a:pt x="18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838480" y="3651480"/>
                      <a:ext cx="396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0">
                          <a:moveTo>
                            <a:pt x="42" y="0"/>
                          </a:moveTo>
                          <a:cubicBezTo>
                            <a:pt x="28" y="22"/>
                            <a:pt x="0" y="32"/>
                            <a:pt x="0" y="6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873040" y="3661920"/>
                      <a:ext cx="51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2">
                          <a:moveTo>
                            <a:pt x="0" y="0"/>
                          </a:moveTo>
                          <a:cubicBezTo>
                            <a:pt x="12" y="4"/>
                            <a:pt x="29" y="1"/>
                            <a:pt x="36" y="12"/>
                          </a:cubicBezTo>
                          <a:cubicBezTo>
                            <a:pt x="49" y="32"/>
                            <a:pt x="41" y="30"/>
                            <a:pt x="54" y="3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7" name=""/>
                  <p:cNvSpPr/>
                  <p:nvPr/>
                </p:nvSpPr>
                <p:spPr>
                  <a:xfrm>
                    <a:off x="5959080" y="3708000"/>
                    <a:ext cx="4536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5930640" y="367200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5994000" y="367200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5947200" y="372816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5982480" y="373860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6004800" y="358524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5976000" y="3549240"/>
                    <a:ext cx="583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6039720" y="354924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5994000" y="360504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6028200" y="361548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6096960" y="372276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6068160" y="368784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6131880" y="3687840"/>
                    <a:ext cx="165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6085440" y="3744000"/>
                    <a:ext cx="39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6120360" y="375372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6051600" y="3805560"/>
                    <a:ext cx="45360" cy="39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6022440" y="3769560"/>
                    <a:ext cx="5724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085440" y="3769560"/>
                    <a:ext cx="180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039720" y="3825720"/>
                    <a:ext cx="403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074640" y="3836160"/>
                    <a:ext cx="5040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7" name=""/>
              <p:cNvSpPr/>
              <p:nvPr/>
            </p:nvSpPr>
            <p:spPr>
              <a:xfrm>
                <a:off x="5482440" y="288612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‘</a:t>
                </a: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nterograde’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5440680" y="4336920"/>
            <a:ext cx="3000960" cy="1454040"/>
            <a:chOff x="5440680" y="4336920"/>
            <a:chExt cx="3000960" cy="1454040"/>
          </a:xfrm>
        </p:grpSpPr>
        <p:grpSp>
          <p:nvGrpSpPr>
            <p:cNvPr id="539" name=""/>
            <p:cNvGrpSpPr/>
            <p:nvPr/>
          </p:nvGrpSpPr>
          <p:grpSpPr>
            <a:xfrm>
              <a:off x="7565040" y="4530240"/>
              <a:ext cx="876600" cy="1229040"/>
              <a:chOff x="7565040" y="4530240"/>
              <a:chExt cx="876600" cy="1229040"/>
            </a:xfrm>
          </p:grpSpPr>
          <p:sp>
            <p:nvSpPr>
              <p:cNvPr id="540" name=""/>
              <p:cNvSpPr/>
              <p:nvPr/>
            </p:nvSpPr>
            <p:spPr>
              <a:xfrm>
                <a:off x="7565040" y="5024160"/>
                <a:ext cx="731520" cy="735120"/>
              </a:xfrm>
              <a:custGeom>
                <a:avLst/>
                <a:gdLst/>
                <a:ahLst/>
                <a:rect l="l" t="t" r="r" b="b"/>
                <a:pathLst>
                  <a:path w="800" h="904">
                    <a:moveTo>
                      <a:pt x="168" y="128"/>
                    </a:moveTo>
                    <a:cubicBezTo>
                      <a:pt x="96" y="184"/>
                      <a:pt x="0" y="272"/>
                      <a:pt x="24" y="368"/>
                    </a:cubicBezTo>
                    <a:cubicBezTo>
                      <a:pt x="48" y="464"/>
                      <a:pt x="208" y="616"/>
                      <a:pt x="312" y="704"/>
                    </a:cubicBezTo>
                    <a:cubicBezTo>
                      <a:pt x="416" y="792"/>
                      <a:pt x="568" y="904"/>
                      <a:pt x="648" y="896"/>
                    </a:cubicBezTo>
                    <a:cubicBezTo>
                      <a:pt x="728" y="888"/>
                      <a:pt x="784" y="752"/>
                      <a:pt x="792" y="656"/>
                    </a:cubicBezTo>
                    <a:cubicBezTo>
                      <a:pt x="800" y="560"/>
                      <a:pt x="752" y="424"/>
                      <a:pt x="696" y="320"/>
                    </a:cubicBezTo>
                    <a:cubicBezTo>
                      <a:pt x="640" y="216"/>
                      <a:pt x="544" y="64"/>
                      <a:pt x="456" y="32"/>
                    </a:cubicBezTo>
                    <a:cubicBezTo>
                      <a:pt x="368" y="0"/>
                      <a:pt x="240" y="72"/>
                      <a:pt x="168" y="128"/>
                    </a:cubicBezTo>
                    <a:close/>
                  </a:path>
                </a:pathLst>
              </a:custGeom>
              <a:solidFill>
                <a:srgbClr val="cc9900">
                  <a:alpha val="50000"/>
                </a:srgbClr>
              </a:solidFill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7976880" y="5043600"/>
                <a:ext cx="45000" cy="781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952760" y="4530240"/>
                <a:ext cx="390960" cy="616320"/>
              </a:xfrm>
              <a:prstGeom prst="line">
                <a:avLst/>
              </a:prstGeom>
              <a:ln w="9360">
                <a:solidFill>
                  <a:srgbClr val="7c04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952760" y="4632840"/>
                <a:ext cx="488880" cy="513360"/>
              </a:xfrm>
              <a:prstGeom prst="line">
                <a:avLst/>
              </a:prstGeom>
              <a:ln w="9360">
                <a:solidFill>
                  <a:srgbClr val="7c04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952760" y="4838760"/>
                <a:ext cx="293400" cy="3074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288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7c042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440680" y="4336920"/>
              <a:ext cx="2810880" cy="1454040"/>
              <a:chOff x="5440680" y="4336920"/>
              <a:chExt cx="2810880" cy="1454040"/>
            </a:xfrm>
          </p:grpSpPr>
          <p:sp>
            <p:nvSpPr>
              <p:cNvPr id="546" name=""/>
              <p:cNvSpPr/>
              <p:nvPr/>
            </p:nvSpPr>
            <p:spPr>
              <a:xfrm>
                <a:off x="5582880" y="5244480"/>
                <a:ext cx="621720" cy="546480"/>
              </a:xfrm>
              <a:custGeom>
                <a:avLst/>
                <a:gdLst/>
                <a:ahLst/>
                <a:rect l="l" t="t" r="r" b="b"/>
                <a:pathLst>
                  <a:path w="728" h="448">
                    <a:moveTo>
                      <a:pt x="248" y="8"/>
                    </a:moveTo>
                    <a:cubicBezTo>
                      <a:pt x="160" y="0"/>
                      <a:pt x="192" y="24"/>
                      <a:pt x="152" y="56"/>
                    </a:cubicBezTo>
                    <a:cubicBezTo>
                      <a:pt x="112" y="88"/>
                      <a:pt x="16" y="168"/>
                      <a:pt x="8" y="200"/>
                    </a:cubicBezTo>
                    <a:cubicBezTo>
                      <a:pt x="0" y="232"/>
                      <a:pt x="88" y="216"/>
                      <a:pt x="104" y="248"/>
                    </a:cubicBezTo>
                    <a:cubicBezTo>
                      <a:pt x="120" y="280"/>
                      <a:pt x="80" y="360"/>
                      <a:pt x="104" y="392"/>
                    </a:cubicBezTo>
                    <a:cubicBezTo>
                      <a:pt x="128" y="424"/>
                      <a:pt x="176" y="448"/>
                      <a:pt x="248" y="440"/>
                    </a:cubicBezTo>
                    <a:cubicBezTo>
                      <a:pt x="320" y="432"/>
                      <a:pt x="464" y="400"/>
                      <a:pt x="536" y="344"/>
                    </a:cubicBezTo>
                    <a:cubicBezTo>
                      <a:pt x="608" y="288"/>
                      <a:pt x="728" y="160"/>
                      <a:pt x="680" y="104"/>
                    </a:cubicBezTo>
                    <a:cubicBezTo>
                      <a:pt x="632" y="48"/>
                      <a:pt x="336" y="16"/>
                      <a:pt x="248" y="8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650640" y="4336920"/>
                <a:ext cx="525960" cy="48780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262560" y="5064480"/>
                <a:ext cx="525960" cy="4867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446160" y="5131440"/>
                <a:ext cx="9576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6446160" y="5131800"/>
                <a:ext cx="95760" cy="28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09480" y="5282640"/>
                <a:ext cx="2018880" cy="19548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966280" y="5360760"/>
                <a:ext cx="2016720" cy="19440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78440" y="5282640"/>
                <a:ext cx="2017800" cy="19548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90240" y="5204520"/>
                <a:ext cx="2018880" cy="19440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5720040" y="5354640"/>
                <a:ext cx="97560" cy="101160"/>
                <a:chOff x="5720040" y="5354640"/>
                <a:chExt cx="97560" cy="1011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5747040" y="5388120"/>
                  <a:ext cx="43200" cy="38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720040" y="5354640"/>
                  <a:ext cx="54000" cy="52920"/>
                </a:xfrm>
                <a:custGeom>
                  <a:avLst/>
                  <a:gdLst/>
                  <a:ahLst/>
                  <a:rect l="l" t="t" r="r" b="b"/>
                  <a:pathLst>
                    <a:path w="60" h="66">
                      <a:moveTo>
                        <a:pt x="60" y="66"/>
                      </a:moveTo>
                      <a:cubicBezTo>
                        <a:pt x="49" y="55"/>
                        <a:pt x="34" y="48"/>
                        <a:pt x="24" y="36"/>
                      </a:cubicBezTo>
                      <a:cubicBezTo>
                        <a:pt x="15" y="25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779440" y="5354640"/>
                  <a:ext cx="16200" cy="43200"/>
                </a:xfrm>
                <a:custGeom>
                  <a:avLst/>
                  <a:gdLst/>
                  <a:ahLst/>
                  <a:rect l="l" t="t" r="r" b="b"/>
                  <a:pathLst>
                    <a:path w="18" h="54">
                      <a:moveTo>
                        <a:pt x="0" y="54"/>
                      </a:moveTo>
                      <a:cubicBezTo>
                        <a:pt x="7" y="33"/>
                        <a:pt x="18" y="22"/>
                        <a:pt x="18" y="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36240" y="5407560"/>
                  <a:ext cx="37800" cy="48240"/>
                </a:xfrm>
                <a:custGeom>
                  <a:avLst/>
                  <a:gdLst/>
                  <a:ahLst/>
                  <a:rect l="l" t="t" r="r" b="b"/>
                  <a:pathLst>
                    <a:path w="42" h="60">
                      <a:moveTo>
                        <a:pt x="42" y="0"/>
                      </a:moveTo>
                      <a:cubicBezTo>
                        <a:pt x="28" y="22"/>
                        <a:pt x="0" y="32"/>
                        <a:pt x="0" y="6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769000" y="5417280"/>
                  <a:ext cx="48600" cy="2556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0"/>
                      </a:moveTo>
                      <a:cubicBezTo>
                        <a:pt x="12" y="4"/>
                        <a:pt x="29" y="1"/>
                        <a:pt x="36" y="12"/>
                      </a:cubicBezTo>
                      <a:cubicBezTo>
                        <a:pt x="49" y="32"/>
                        <a:pt x="41" y="30"/>
                        <a:pt x="54" y="3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5850720" y="5461560"/>
                <a:ext cx="42840" cy="38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24080" y="542772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84560" y="5427720"/>
                <a:ext cx="15480" cy="442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39200" y="5481360"/>
                <a:ext cx="38880" cy="4932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73400" y="549144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93920" y="5344560"/>
                <a:ext cx="450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67280" y="5310360"/>
                <a:ext cx="55800" cy="5364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928120" y="5310360"/>
                <a:ext cx="15120" cy="442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84560" y="5364000"/>
                <a:ext cx="38160" cy="4896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16600" y="537444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982480" y="5475960"/>
                <a:ext cx="44280" cy="38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54760" y="544212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15600" y="5442120"/>
                <a:ext cx="16560" cy="4392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971320" y="5495760"/>
                <a:ext cx="37800" cy="4932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04080" y="5505120"/>
                <a:ext cx="49320" cy="2628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39280" y="5554440"/>
                <a:ext cx="42840" cy="38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11560" y="552060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71320" y="5520600"/>
                <a:ext cx="17280" cy="4284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928120" y="5573880"/>
                <a:ext cx="37800" cy="482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960880" y="5584320"/>
                <a:ext cx="48240" cy="2448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19560" y="5262840"/>
                <a:ext cx="2017080" cy="19440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74000" y="536580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000640" y="5410440"/>
                <a:ext cx="49320" cy="295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921440" y="5239440"/>
                <a:ext cx="41040" cy="19548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29720" y="526284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017200" y="5220000"/>
                <a:ext cx="44280" cy="781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79040" y="5434920"/>
                <a:ext cx="15912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104680" y="549360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049960" y="5434920"/>
                <a:ext cx="2232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006760" y="5328000"/>
                <a:ext cx="115200" cy="5364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928640" y="5443200"/>
                <a:ext cx="576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956360" y="548856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77160" y="5317560"/>
                <a:ext cx="41040" cy="19440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885440" y="534024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974000" y="5297040"/>
                <a:ext cx="42840" cy="7884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934760" y="5512320"/>
                <a:ext cx="15840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0400" y="557100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005680" y="5512320"/>
                <a:ext cx="2232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2480" y="5405040"/>
                <a:ext cx="115200" cy="5328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842240" y="536580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69960" y="5410440"/>
                <a:ext cx="49320" cy="295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789680" y="5239440"/>
                <a:ext cx="41040" cy="19548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799040" y="526284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85440" y="5220000"/>
                <a:ext cx="44280" cy="781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847280" y="5434920"/>
                <a:ext cx="15948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974000" y="549360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919280" y="5434920"/>
                <a:ext cx="2160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75000" y="5328000"/>
                <a:ext cx="115200" cy="5364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754400" y="528696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81400" y="533196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702200" y="5161320"/>
                <a:ext cx="41040" cy="19440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759800" y="5355720"/>
                <a:ext cx="15948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885440" y="5414400"/>
                <a:ext cx="9900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30720" y="5355720"/>
                <a:ext cx="22320" cy="5868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87520" y="5248800"/>
                <a:ext cx="114840" cy="5328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202600" y="5597640"/>
                <a:ext cx="48960" cy="48240"/>
              </a:xfrm>
              <a:custGeom>
                <a:avLst/>
                <a:gdLst>
                  <a:gd name="textAreaLeft" fmla="*/ 11520 w 48960"/>
                  <a:gd name="textAreaRight" fmla="*/ 37440 w 48960"/>
                  <a:gd name="textAreaTop" fmla="*/ 5400 h 48240"/>
                  <a:gd name="textAreaBottom" fmla="*/ 30240 h 482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710480" y="518400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82280" y="5345280"/>
                <a:ext cx="576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010000" y="5389920"/>
                <a:ext cx="49320" cy="295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0800" y="5220000"/>
                <a:ext cx="41040" cy="19440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39080" y="524232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027640" y="5199120"/>
                <a:ext cx="42840" cy="7920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988400" y="5414400"/>
                <a:ext cx="15876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114040" y="5473080"/>
                <a:ext cx="9900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059320" y="5414400"/>
                <a:ext cx="2232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016120" y="5307480"/>
                <a:ext cx="114840" cy="5328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6747480" y="4433400"/>
                <a:ext cx="368280" cy="933120"/>
                <a:chOff x="6747480" y="4433400"/>
                <a:chExt cx="368280" cy="933120"/>
              </a:xfrm>
            </p:grpSpPr>
            <p:grpSp>
              <p:nvGrpSpPr>
                <p:cNvPr id="628" name=""/>
                <p:cNvGrpSpPr/>
                <p:nvPr/>
              </p:nvGrpSpPr>
              <p:grpSpPr>
                <a:xfrm>
                  <a:off x="6747840" y="4433400"/>
                  <a:ext cx="333720" cy="311760"/>
                  <a:chOff x="6747840" y="4433400"/>
                  <a:chExt cx="333720" cy="311760"/>
                </a:xfrm>
              </p:grpSpPr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6747840" y="4477680"/>
                    <a:ext cx="97560" cy="101880"/>
                    <a:chOff x="6747840" y="4477680"/>
                    <a:chExt cx="97560" cy="10188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6774840" y="4511520"/>
                      <a:ext cx="43200" cy="38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6747840" y="4477680"/>
                      <a:ext cx="5400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66">
                          <a:moveTo>
                            <a:pt x="60" y="66"/>
                          </a:moveTo>
                          <a:cubicBezTo>
                            <a:pt x="49" y="55"/>
                            <a:pt x="34" y="48"/>
                            <a:pt x="24" y="36"/>
                          </a:cubicBezTo>
                          <a:cubicBezTo>
                            <a:pt x="15" y="25"/>
                            <a:pt x="0" y="0"/>
                            <a:pt x="0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6807240" y="4477680"/>
                      <a:ext cx="1620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4">
                          <a:moveTo>
                            <a:pt x="0" y="54"/>
                          </a:moveTo>
                          <a:cubicBezTo>
                            <a:pt x="7" y="33"/>
                            <a:pt x="18" y="22"/>
                            <a:pt x="18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6764040" y="4530960"/>
                      <a:ext cx="3780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0">
                          <a:moveTo>
                            <a:pt x="42" y="0"/>
                          </a:moveTo>
                          <a:cubicBezTo>
                            <a:pt x="28" y="22"/>
                            <a:pt x="0" y="32"/>
                            <a:pt x="0" y="6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6796800" y="4540680"/>
                      <a:ext cx="486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2">
                          <a:moveTo>
                            <a:pt x="0" y="0"/>
                          </a:moveTo>
                          <a:cubicBezTo>
                            <a:pt x="12" y="4"/>
                            <a:pt x="29" y="1"/>
                            <a:pt x="36" y="12"/>
                          </a:cubicBezTo>
                          <a:cubicBezTo>
                            <a:pt x="49" y="32"/>
                            <a:pt x="41" y="30"/>
                            <a:pt x="54" y="3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5" name=""/>
                  <p:cNvSpPr/>
                  <p:nvPr/>
                </p:nvSpPr>
                <p:spPr>
                  <a:xfrm>
                    <a:off x="6878880" y="4584600"/>
                    <a:ext cx="43200" cy="39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851520" y="4550400"/>
                    <a:ext cx="543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912000" y="4550400"/>
                    <a:ext cx="162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867720" y="4604040"/>
                    <a:ext cx="38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901200" y="4614120"/>
                    <a:ext cx="4932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922440" y="4467600"/>
                    <a:ext cx="44280" cy="39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895080" y="4433400"/>
                    <a:ext cx="554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955560" y="4433400"/>
                    <a:ext cx="162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912000" y="4486680"/>
                    <a:ext cx="38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944760" y="4496760"/>
                    <a:ext cx="4932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7010280" y="4599000"/>
                    <a:ext cx="44280" cy="39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982920" y="4565520"/>
                    <a:ext cx="543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7043760" y="4565520"/>
                    <a:ext cx="1584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999120" y="4619160"/>
                    <a:ext cx="3816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7032240" y="4628160"/>
                    <a:ext cx="49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966720" y="4677840"/>
                    <a:ext cx="4320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6939360" y="4643280"/>
                    <a:ext cx="547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6999120" y="4643280"/>
                    <a:ext cx="169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955560" y="4696920"/>
                    <a:ext cx="38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6989040" y="4707360"/>
                    <a:ext cx="48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5" name=""/>
                <p:cNvSpPr/>
                <p:nvPr/>
              </p:nvSpPr>
              <p:spPr>
                <a:xfrm flipH="1">
                  <a:off x="6889320" y="4485960"/>
                  <a:ext cx="145080" cy="78264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6932160" y="4692960"/>
                  <a:ext cx="14616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6837840" y="4615200"/>
                  <a:ext cx="14508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6747120" y="4540320"/>
                  <a:ext cx="14508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6969600" y="4621320"/>
                  <a:ext cx="14616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"/>
              <p:cNvSpPr/>
              <p:nvPr/>
            </p:nvSpPr>
            <p:spPr>
              <a:xfrm>
                <a:off x="5440680" y="4772880"/>
                <a:ext cx="108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‘</a:t>
                </a: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retrograde’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838080" y="3886200"/>
            <a:ext cx="3962520" cy="25909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 and eff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49320" y="1905120"/>
            <a:ext cx="78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urrent performance achieved by annotating 40 docum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ach document contains 97 sentences (in results section) on aver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nnotation ra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~ 40 Sent/hr (no support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~115 Sent/hr (after 20 document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ime taken to annotate document to train system to perform at this standar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~65 hours with no suppor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stimate ~2 months for a 50% RA (20 hours / week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907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we discover the schema from the t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iven a large review or a grant proposal specific to a single laborator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notate independent and dependent variables in paper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n we learn and extract these pattern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831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from current set of anno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228600" y="1752480"/>
          <a:ext cx="6095880" cy="46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6095880" cy="46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"/>
          <p:cNvSpPr/>
          <p:nvPr/>
        </p:nvSpPr>
        <p:spPr>
          <a:xfrm>
            <a:off x="6537240" y="2043000"/>
            <a:ext cx="245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 independent variables: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pecie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onist/antagonist combinations (9)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imary antibody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ain region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 dependent variable: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gnal density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formation Sciences Institute, seed funding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National Library of Medicine (RO1-LM07061)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NSF (LONI MAP projec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BP (USCBP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euroscience consulta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lan Watts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arry Swanso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shad Kha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ick Thompso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Joel Hah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ori Gorto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Kim Rapp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mputer Scienti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duard Hovy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onghui Feng *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atrick Pantel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velop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mmy Ingulfse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Wei-Cheng Cheng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’s all the knowled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5257800" cy="3435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2120" y="5638680"/>
            <a:ext cx="39751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i="1" lang="en-US" sz="1100" spc="-1" strike="noStrike">
                <a:solidFill>
                  <a:srgbClr val="292929"/>
                </a:solidFill>
                <a:latin typeface="Arial"/>
              </a:rPr>
              <a:t>Image taken from U.S. Geological Survey Energy Resource Surveys Program </a:t>
            </a:r>
            <a:endParaRPr b="0" lang="en-US" sz="11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1905120"/>
            <a:ext cx="29718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 Unicode MS"/>
              </a:rPr>
              <a:t>The primary research literature..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the end-product of all scientific research 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forms the basis for human understanding of the subject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... is written in natural language 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structured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interpretabl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expensiv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ters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96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cision and imprecision in biological re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3680" y="3160800"/>
            <a:ext cx="157464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say: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fine model system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5600" y="4557600"/>
            <a:ext cx="19908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periment: perform measurement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4" idx="3"/>
            <a:endCxn id="103" idx="3"/>
          </p:cNvCxnSpPr>
          <p:nvPr/>
        </p:nvCxnSpPr>
        <p:spPr>
          <a:xfrm flipH="1" flipV="1">
            <a:off x="5277960" y="3579480"/>
            <a:ext cx="208800" cy="1397520"/>
          </a:xfrm>
          <a:prstGeom prst="curvedConnector5">
            <a:avLst>
              <a:gd name="adj1" fmla="val -109844"/>
              <a:gd name="adj2" fmla="val 49987"/>
              <a:gd name="adj3" fmla="val -109844"/>
            </a:avLst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3" idx="2"/>
            <a:endCxn id="104" idx="0"/>
          </p:cNvCxnSpPr>
          <p:nvPr/>
        </p:nvCxnSpPr>
        <p:spPr>
          <a:xfrm flipV="1" rot="10800000">
            <a:off x="4490280" y="3998880"/>
            <a:ext cx="1080" cy="559080"/>
          </a:xfrm>
          <a:prstGeom prst="curvedConnector2">
            <a:avLst/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703680" y="2013120"/>
            <a:ext cx="15746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nceptual model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2"/>
            <a:endCxn id="103" idx="0"/>
          </p:cNvCxnSpPr>
          <p:nvPr/>
        </p:nvCxnSpPr>
        <p:spPr>
          <a:xfrm flipV="1" rot="10800000">
            <a:off x="4490280" y="2606400"/>
            <a:ext cx="1080" cy="554760"/>
          </a:xfrm>
          <a:prstGeom prst="curvedConnector2">
            <a:avLst/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3" idx="3"/>
            <a:endCxn id="107" idx="3"/>
          </p:cNvCxnSpPr>
          <p:nvPr/>
        </p:nvCxnSpPr>
        <p:spPr>
          <a:xfrm flipV="1">
            <a:off x="5277960" y="2309400"/>
            <a:ext cx="2520" cy="127080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96080" y="1851120"/>
            <a:ext cx="249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tress’, ‘energy balance’,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omeostasis’,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glucoprivation’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04812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-deoxyglucose (2DG) administrated intravenously to rats, look for activation in ‘stress-responsive’ neuron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7360" y="457200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AP-K and pERK activate in neurons in PVH, BST and CEAl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214776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igh-level concept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73760" y="3443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dependent variable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73760" y="48448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pendent variable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895480"/>
            <a:ext cx="861048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2529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Imprecise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2909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recise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1843200"/>
            <a:ext cx="7432560" cy="4120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ing the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2120" y="1843200"/>
            <a:ext cx="7434000" cy="41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blem with knowledge: an over-abundanc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2025720"/>
            <a:ext cx="7620120" cy="399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" y="3657600"/>
            <a:ext cx="8086680" cy="2858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us Preparation for Natural Language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2438280"/>
            <a:ext cx="419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Journal of Comparative Neurology is the foremost international journal for neuroanatomy. We downloaded ~12,000 PDFs in total from 1970-2005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We preprocessed papers with consistent formatting from vol. 204 - 490 (1982-2005) providing a corpus of 9,474 PDF files. This corpus contains 99,094,318 word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9833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 / Information Extrac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85960" y="2500200"/>
            <a:ext cx="23112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85960" y="2500200"/>
            <a:ext cx="4030560" cy="4095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85960" y="2505240"/>
            <a:ext cx="5344920" cy="4097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85960" y="2505240"/>
            <a:ext cx="5343480" cy="4092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885960" y="2500200"/>
            <a:ext cx="5344920" cy="4095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85960" y="1828800"/>
            <a:ext cx="6705360" cy="4944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885960" y="1827360"/>
            <a:ext cx="6718320" cy="4954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885960" y="1816200"/>
            <a:ext cx="6916680" cy="498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gical structure of a tract-tracing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cer Chemical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jection Site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beled region [1...*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psi-contra relative to injection site?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typ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dens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01720" y="2825640"/>
            <a:ext cx="3232080" cy="1227960"/>
            <a:chOff x="5301720" y="2825640"/>
            <a:chExt cx="3232080" cy="1227960"/>
          </a:xfrm>
        </p:grpSpPr>
        <p:grpSp>
          <p:nvGrpSpPr>
            <p:cNvPr id="140" name=""/>
            <p:cNvGrpSpPr/>
            <p:nvPr/>
          </p:nvGrpSpPr>
          <p:grpSpPr>
            <a:xfrm>
              <a:off x="5301720" y="3137760"/>
              <a:ext cx="1008720" cy="915840"/>
              <a:chOff x="5301720" y="3137760"/>
              <a:chExt cx="1008720" cy="915840"/>
            </a:xfrm>
          </p:grpSpPr>
          <p:sp>
            <p:nvSpPr>
              <p:cNvPr id="141" name=""/>
              <p:cNvSpPr/>
              <p:nvPr/>
            </p:nvSpPr>
            <p:spPr>
              <a:xfrm>
                <a:off x="5658120" y="3480120"/>
                <a:ext cx="652320" cy="573480"/>
              </a:xfrm>
              <a:custGeom>
                <a:avLst/>
                <a:gdLst/>
                <a:ahLst/>
                <a:rect l="l" t="t" r="r" b="b"/>
                <a:pathLst>
                  <a:path w="728" h="448">
                    <a:moveTo>
                      <a:pt x="248" y="8"/>
                    </a:moveTo>
                    <a:cubicBezTo>
                      <a:pt x="160" y="0"/>
                      <a:pt x="192" y="24"/>
                      <a:pt x="152" y="56"/>
                    </a:cubicBezTo>
                    <a:cubicBezTo>
                      <a:pt x="112" y="88"/>
                      <a:pt x="16" y="168"/>
                      <a:pt x="8" y="200"/>
                    </a:cubicBezTo>
                    <a:cubicBezTo>
                      <a:pt x="0" y="232"/>
                      <a:pt x="88" y="216"/>
                      <a:pt x="104" y="248"/>
                    </a:cubicBezTo>
                    <a:cubicBezTo>
                      <a:pt x="120" y="280"/>
                      <a:pt x="80" y="360"/>
                      <a:pt x="104" y="392"/>
                    </a:cubicBezTo>
                    <a:cubicBezTo>
                      <a:pt x="128" y="424"/>
                      <a:pt x="176" y="448"/>
                      <a:pt x="248" y="440"/>
                    </a:cubicBezTo>
                    <a:cubicBezTo>
                      <a:pt x="320" y="432"/>
                      <a:pt x="464" y="400"/>
                      <a:pt x="536" y="344"/>
                    </a:cubicBezTo>
                    <a:cubicBezTo>
                      <a:pt x="608" y="288"/>
                      <a:pt x="728" y="160"/>
                      <a:pt x="680" y="104"/>
                    </a:cubicBezTo>
                    <a:cubicBezTo>
                      <a:pt x="632" y="48"/>
                      <a:pt x="336" y="16"/>
                      <a:pt x="248" y="8"/>
                    </a:cubicBezTo>
                    <a:close/>
                  </a:path>
                </a:pathLst>
              </a:custGeom>
              <a:solidFill>
                <a:srgbClr val="cc9900">
                  <a:alpha val="50000"/>
                </a:srgbClr>
              </a:solidFill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13360" y="3901680"/>
                <a:ext cx="50400" cy="50040"/>
              </a:xfrm>
              <a:custGeom>
                <a:avLst/>
                <a:gdLst>
                  <a:gd name="textAreaLeft" fmla="*/ 11880 w 50400"/>
                  <a:gd name="textAreaRight" fmla="*/ 38520 w 50400"/>
                  <a:gd name="textAreaTop" fmla="*/ 5760 h 50040"/>
                  <a:gd name="textAreaBottom" fmla="*/ 31320 h 500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301720" y="3137760"/>
                <a:ext cx="513720" cy="646200"/>
                <a:chOff x="5301720" y="3137760"/>
                <a:chExt cx="513720" cy="646200"/>
              </a:xfrm>
            </p:grpSpPr>
            <p:sp>
              <p:nvSpPr>
                <p:cNvPr id="144" name=""/>
                <p:cNvSpPr/>
                <p:nvPr/>
              </p:nvSpPr>
              <p:spPr>
                <a:xfrm flipH="1" flipV="1">
                  <a:off x="5404320" y="3137760"/>
                  <a:ext cx="410760" cy="64620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5301720" y="3246120"/>
                  <a:ext cx="513720" cy="53784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5506920" y="3461040"/>
                  <a:ext cx="307800" cy="32292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28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7c042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5482440" y="2825640"/>
              <a:ext cx="3051360" cy="1194120"/>
              <a:chOff x="5482440" y="2825640"/>
              <a:chExt cx="3051360" cy="1194120"/>
            </a:xfrm>
          </p:grpSpPr>
          <p:sp>
            <p:nvSpPr>
              <p:cNvPr id="148" name=""/>
              <p:cNvSpPr/>
              <p:nvPr/>
            </p:nvSpPr>
            <p:spPr>
              <a:xfrm>
                <a:off x="7765920" y="3249000"/>
                <a:ext cx="767880" cy="770760"/>
              </a:xfrm>
              <a:custGeom>
                <a:avLst/>
                <a:gdLst/>
                <a:ahLst/>
                <a:rect l="l" t="t" r="r" b="b"/>
                <a:pathLst>
                  <a:path w="800" h="904">
                    <a:moveTo>
                      <a:pt x="168" y="128"/>
                    </a:moveTo>
                    <a:cubicBezTo>
                      <a:pt x="96" y="184"/>
                      <a:pt x="0" y="272"/>
                      <a:pt x="24" y="368"/>
                    </a:cubicBezTo>
                    <a:cubicBezTo>
                      <a:pt x="48" y="464"/>
                      <a:pt x="208" y="616"/>
                      <a:pt x="312" y="704"/>
                    </a:cubicBezTo>
                    <a:cubicBezTo>
                      <a:pt x="416" y="792"/>
                      <a:pt x="568" y="904"/>
                      <a:pt x="648" y="896"/>
                    </a:cubicBezTo>
                    <a:cubicBezTo>
                      <a:pt x="728" y="888"/>
                      <a:pt x="784" y="752"/>
                      <a:pt x="792" y="656"/>
                    </a:cubicBezTo>
                    <a:cubicBezTo>
                      <a:pt x="800" y="560"/>
                      <a:pt x="752" y="424"/>
                      <a:pt x="696" y="320"/>
                    </a:cubicBezTo>
                    <a:cubicBezTo>
                      <a:pt x="640" y="216"/>
                      <a:pt x="544" y="64"/>
                      <a:pt x="456" y="32"/>
                    </a:cubicBezTo>
                    <a:cubicBezTo>
                      <a:pt x="368" y="0"/>
                      <a:pt x="240" y="72"/>
                      <a:pt x="168" y="128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14520" y="282564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91800" y="329112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6584400" y="3361680"/>
                <a:ext cx="101520" cy="305280"/>
                <a:chOff x="6584400" y="3361680"/>
                <a:chExt cx="101520" cy="305280"/>
              </a:xfrm>
            </p:grpSpPr>
            <p:sp>
              <p:nvSpPr>
                <p:cNvPr id="152" name=""/>
                <p:cNvSpPr/>
                <p:nvPr/>
              </p:nvSpPr>
              <p:spPr>
                <a:xfrm flipH="1">
                  <a:off x="6584400" y="336204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6584400" y="336132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821560" y="2896200"/>
                <a:ext cx="2606760" cy="1021320"/>
                <a:chOff x="5821560" y="2896200"/>
                <a:chExt cx="2606760" cy="10213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6125760" y="3018960"/>
                  <a:ext cx="2302560" cy="816840"/>
                  <a:chOff x="6125760" y="3018960"/>
                  <a:chExt cx="2302560" cy="8168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612576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18488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28856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28280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22520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25400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31160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30584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34616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818676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821556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813204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14068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823284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19252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32500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26740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822132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080400" y="3100680"/>
                  <a:ext cx="2301480" cy="816840"/>
                  <a:chOff x="6080400" y="3100680"/>
                  <a:chExt cx="2301480" cy="8168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080400" y="360216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139160" y="315180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242480" y="315684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237080" y="310068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179480" y="31924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208280" y="320796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265520" y="31258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260120" y="318744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300440" y="321840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8140680" y="368928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169120" y="373536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8085600" y="355608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8094600" y="358092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8186400" y="353556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8146080" y="376092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8278560" y="382212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220960" y="376092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8175240" y="364824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6034680" y="2896200"/>
                  <a:ext cx="2301480" cy="816840"/>
                  <a:chOff x="6034680" y="2896200"/>
                  <a:chExt cx="2301480" cy="8168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6034680" y="339768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093440" y="294732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196760" y="295236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191360" y="289620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133760" y="29880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162560" y="300348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219800" y="29214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214400" y="298296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254720" y="301392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8094960" y="348480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123400" y="353088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039880" y="335160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8048880" y="337644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140680" y="333108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100360" y="355644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232840" y="361764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175240" y="355644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8129520" y="344376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5987880" y="3018960"/>
                  <a:ext cx="2302560" cy="816840"/>
                  <a:chOff x="5987880" y="3018960"/>
                  <a:chExt cx="2302560" cy="8168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598788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04700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15068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714492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08732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11612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17372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796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20828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04888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07768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99416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800280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809496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05464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818712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812952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08344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5895360" y="2936520"/>
                  <a:ext cx="2302560" cy="816840"/>
                  <a:chOff x="5895360" y="2936520"/>
                  <a:chExt cx="2302560" cy="8168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895360" y="343800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6954480" y="298764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058160" y="299268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52400" y="293652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994800" y="30283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023600" y="304380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081200" y="29617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075440" y="302328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115760" y="305424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956360" y="352512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985160" y="357120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901640" y="339192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910280" y="341676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002440" y="337140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962120" y="359676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8094600" y="365796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037000" y="359676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990920" y="348408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5821560" y="3549240"/>
                  <a:ext cx="350640" cy="326880"/>
                  <a:chOff x="5821560" y="3549240"/>
                  <a:chExt cx="350640" cy="326880"/>
                </a:xfrm>
              </p:grpSpPr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821560" y="3595680"/>
                    <a:ext cx="102600" cy="106560"/>
                    <a:chOff x="5821560" y="3595680"/>
                    <a:chExt cx="102600" cy="1065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0000" y="3630960"/>
                      <a:ext cx="45360" cy="40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821560" y="3595680"/>
                      <a:ext cx="568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66">
                          <a:moveTo>
                            <a:pt x="60" y="66"/>
                          </a:moveTo>
                          <a:cubicBezTo>
                            <a:pt x="49" y="55"/>
                            <a:pt x="34" y="48"/>
                            <a:pt x="24" y="36"/>
                          </a:cubicBezTo>
                          <a:cubicBezTo>
                            <a:pt x="15" y="25"/>
                            <a:pt x="0" y="0"/>
                            <a:pt x="0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5884200" y="3595680"/>
                      <a:ext cx="1692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4">
                          <a:moveTo>
                            <a:pt x="0" y="54"/>
                          </a:moveTo>
                          <a:cubicBezTo>
                            <a:pt x="7" y="33"/>
                            <a:pt x="18" y="22"/>
                            <a:pt x="18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5838480" y="3651480"/>
                      <a:ext cx="396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0">
                          <a:moveTo>
                            <a:pt x="42" y="0"/>
                          </a:moveTo>
                          <a:cubicBezTo>
                            <a:pt x="28" y="22"/>
                            <a:pt x="0" y="32"/>
                            <a:pt x="0" y="6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873040" y="3661920"/>
                      <a:ext cx="51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2">
                          <a:moveTo>
                            <a:pt x="0" y="0"/>
                          </a:moveTo>
                          <a:cubicBezTo>
                            <a:pt x="12" y="4"/>
                            <a:pt x="29" y="1"/>
                            <a:pt x="36" y="12"/>
                          </a:cubicBezTo>
                          <a:cubicBezTo>
                            <a:pt x="49" y="32"/>
                            <a:pt x="41" y="30"/>
                            <a:pt x="54" y="3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7" name=""/>
                  <p:cNvSpPr/>
                  <p:nvPr/>
                </p:nvSpPr>
                <p:spPr>
                  <a:xfrm>
                    <a:off x="5959080" y="3708000"/>
                    <a:ext cx="4536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930640" y="367200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994000" y="367200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947200" y="372816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982480" y="373860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04800" y="358524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976000" y="3549240"/>
                    <a:ext cx="583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039720" y="354924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994000" y="360504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28200" y="361548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96960" y="372276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068160" y="368784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131880" y="3687840"/>
                    <a:ext cx="165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085440" y="3744000"/>
                    <a:ext cx="39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120360" y="375372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6051600" y="3805560"/>
                    <a:ext cx="45360" cy="39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6022440" y="3769560"/>
                    <a:ext cx="5724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085440" y="3769560"/>
                    <a:ext cx="180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039720" y="3825720"/>
                    <a:ext cx="403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074640" y="3836160"/>
                    <a:ext cx="5040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7" name=""/>
              <p:cNvSpPr/>
              <p:nvPr/>
            </p:nvSpPr>
            <p:spPr>
              <a:xfrm>
                <a:off x="5482440" y="288612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‘</a:t>
                </a: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nterograde’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564320" y="4530600"/>
            <a:ext cx="878040" cy="1228320"/>
            <a:chOff x="7564320" y="4530600"/>
            <a:chExt cx="878040" cy="1228320"/>
          </a:xfrm>
        </p:grpSpPr>
        <p:sp>
          <p:nvSpPr>
            <p:cNvPr id="279" name=""/>
            <p:cNvSpPr/>
            <p:nvPr/>
          </p:nvSpPr>
          <p:spPr>
            <a:xfrm>
              <a:off x="7564320" y="5024160"/>
              <a:ext cx="732600" cy="734760"/>
            </a:xfrm>
            <a:custGeom>
              <a:avLst/>
              <a:gdLst/>
              <a:ahLst/>
              <a:rect l="l" t="t" r="r" b="b"/>
              <a:pathLst>
                <a:path w="800" h="904">
                  <a:moveTo>
                    <a:pt x="168" y="128"/>
                  </a:moveTo>
                  <a:cubicBezTo>
                    <a:pt x="96" y="184"/>
                    <a:pt x="0" y="272"/>
                    <a:pt x="24" y="368"/>
                  </a:cubicBezTo>
                  <a:cubicBezTo>
                    <a:pt x="48" y="464"/>
                    <a:pt x="208" y="616"/>
                    <a:pt x="312" y="704"/>
                  </a:cubicBezTo>
                  <a:cubicBezTo>
                    <a:pt x="416" y="792"/>
                    <a:pt x="568" y="904"/>
                    <a:pt x="648" y="896"/>
                  </a:cubicBezTo>
                  <a:cubicBezTo>
                    <a:pt x="728" y="888"/>
                    <a:pt x="784" y="752"/>
                    <a:pt x="792" y="656"/>
                  </a:cubicBezTo>
                  <a:cubicBezTo>
                    <a:pt x="800" y="560"/>
                    <a:pt x="752" y="424"/>
                    <a:pt x="696" y="320"/>
                  </a:cubicBezTo>
                  <a:cubicBezTo>
                    <a:pt x="640" y="216"/>
                    <a:pt x="544" y="64"/>
                    <a:pt x="456" y="32"/>
                  </a:cubicBezTo>
                  <a:cubicBezTo>
                    <a:pt x="368" y="0"/>
                    <a:pt x="240" y="72"/>
                    <a:pt x="168" y="128"/>
                  </a:cubicBezTo>
                  <a:close/>
                </a:path>
              </a:pathLst>
            </a:custGeom>
            <a:solidFill>
              <a:srgbClr val="cc9900">
                <a:alpha val="50000"/>
              </a:srgbClr>
            </a:solidFill>
            <a:ln w="1260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976520" y="5043960"/>
              <a:ext cx="45000" cy="781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cubicBezTo>
                    <a:pt x="30" y="59"/>
                    <a:pt x="41" y="79"/>
                    <a:pt x="12" y="36"/>
                  </a:cubicBezTo>
                  <a:cubicBezTo>
                    <a:pt x="5" y="25"/>
                    <a:pt x="0" y="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952760" y="4530600"/>
              <a:ext cx="391680" cy="616320"/>
            </a:xfrm>
            <a:prstGeom prst="line">
              <a:avLst/>
            </a:prstGeom>
            <a:ln w="9360">
              <a:solidFill>
                <a:srgbClr val="7c04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952760" y="4633200"/>
              <a:ext cx="489600" cy="513360"/>
            </a:xfrm>
            <a:prstGeom prst="line">
              <a:avLst/>
            </a:prstGeom>
            <a:ln w="9360">
              <a:solidFill>
                <a:srgbClr val="7c04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52760" y="4839120"/>
              <a:ext cx="293760" cy="30744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192" y="0"/>
                  </a:lnTo>
                  <a:lnTo>
                    <a:pt x="28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7c04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583240" y="5245200"/>
            <a:ext cx="622440" cy="546120"/>
          </a:xfrm>
          <a:custGeom>
            <a:avLst/>
            <a:gdLst/>
            <a:ahLst/>
            <a:rect l="l" t="t" r="r" b="b"/>
            <a:pathLst>
              <a:path w="728" h="448">
                <a:moveTo>
                  <a:pt x="248" y="8"/>
                </a:moveTo>
                <a:cubicBezTo>
                  <a:pt x="160" y="0"/>
                  <a:pt x="192" y="24"/>
                  <a:pt x="152" y="56"/>
                </a:cubicBezTo>
                <a:cubicBezTo>
                  <a:pt x="112" y="88"/>
                  <a:pt x="16" y="168"/>
                  <a:pt x="8" y="200"/>
                </a:cubicBezTo>
                <a:cubicBezTo>
                  <a:pt x="0" y="232"/>
                  <a:pt x="88" y="216"/>
                  <a:pt x="104" y="248"/>
                </a:cubicBezTo>
                <a:cubicBezTo>
                  <a:pt x="120" y="280"/>
                  <a:pt x="80" y="360"/>
                  <a:pt x="104" y="392"/>
                </a:cubicBezTo>
                <a:cubicBezTo>
                  <a:pt x="128" y="424"/>
                  <a:pt x="176" y="448"/>
                  <a:pt x="248" y="440"/>
                </a:cubicBezTo>
                <a:cubicBezTo>
                  <a:pt x="320" y="432"/>
                  <a:pt x="464" y="400"/>
                  <a:pt x="536" y="344"/>
                </a:cubicBezTo>
                <a:cubicBezTo>
                  <a:pt x="608" y="288"/>
                  <a:pt x="728" y="160"/>
                  <a:pt x="680" y="104"/>
                </a:cubicBezTo>
                <a:cubicBezTo>
                  <a:pt x="632" y="48"/>
                  <a:pt x="336" y="16"/>
                  <a:pt x="248" y="8"/>
                </a:cubicBezTo>
                <a:close/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2560" y="5064120"/>
            <a:ext cx="525600" cy="487440"/>
          </a:xfrm>
          <a:custGeom>
            <a:avLst/>
            <a:gdLst/>
            <a:ahLst/>
            <a:rect l="l" t="t" r="r" b="b"/>
            <a:pathLst>
              <a:path w="576" h="600">
                <a:moveTo>
                  <a:pt x="96" y="152"/>
                </a:moveTo>
                <a:cubicBezTo>
                  <a:pt x="56" y="200"/>
                  <a:pt x="0" y="256"/>
                  <a:pt x="0" y="296"/>
                </a:cubicBezTo>
                <a:cubicBezTo>
                  <a:pt x="0" y="336"/>
                  <a:pt x="56" y="344"/>
                  <a:pt x="96" y="392"/>
                </a:cubicBezTo>
                <a:cubicBezTo>
                  <a:pt x="136" y="440"/>
                  <a:pt x="168" y="568"/>
                  <a:pt x="240" y="584"/>
                </a:cubicBezTo>
                <a:cubicBezTo>
                  <a:pt x="312" y="600"/>
                  <a:pt x="480" y="552"/>
                  <a:pt x="528" y="488"/>
                </a:cubicBezTo>
                <a:cubicBezTo>
                  <a:pt x="576" y="424"/>
                  <a:pt x="576" y="280"/>
                  <a:pt x="528" y="200"/>
                </a:cubicBezTo>
                <a:cubicBezTo>
                  <a:pt x="480" y="120"/>
                  <a:pt x="312" y="16"/>
                  <a:pt x="240" y="8"/>
                </a:cubicBezTo>
                <a:cubicBezTo>
                  <a:pt x="168" y="0"/>
                  <a:pt x="136" y="104"/>
                  <a:pt x="96" y="152"/>
                </a:cubicBezTo>
                <a:close/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446880" y="5130720"/>
            <a:ext cx="943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6446880" y="5133960"/>
            <a:ext cx="9432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0200" y="5283360"/>
            <a:ext cx="201780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65920" y="5361120"/>
            <a:ext cx="201744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78440" y="5283360"/>
            <a:ext cx="201780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89520" y="5203800"/>
            <a:ext cx="201924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719680" y="5354640"/>
            <a:ext cx="98280" cy="101160"/>
            <a:chOff x="5719680" y="5354640"/>
            <a:chExt cx="98280" cy="101160"/>
          </a:xfrm>
        </p:grpSpPr>
        <p:sp>
          <p:nvSpPr>
            <p:cNvPr id="293" name=""/>
            <p:cNvSpPr/>
            <p:nvPr/>
          </p:nvSpPr>
          <p:spPr>
            <a:xfrm>
              <a:off x="5747040" y="5388120"/>
              <a:ext cx="4356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19680" y="5354640"/>
              <a:ext cx="54720" cy="5292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66"/>
                  </a:moveTo>
                  <a:cubicBezTo>
                    <a:pt x="49" y="55"/>
                    <a:pt x="34" y="48"/>
                    <a:pt x="24" y="36"/>
                  </a:cubicBezTo>
                  <a:cubicBezTo>
                    <a:pt x="15" y="25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79800" y="5354640"/>
              <a:ext cx="16560" cy="4320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0" y="54"/>
                  </a:moveTo>
                  <a:cubicBezTo>
                    <a:pt x="7" y="33"/>
                    <a:pt x="18" y="22"/>
                    <a:pt x="18" y="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36240" y="5407560"/>
              <a:ext cx="38160" cy="4824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42" y="0"/>
                  </a:moveTo>
                  <a:cubicBezTo>
                    <a:pt x="28" y="22"/>
                    <a:pt x="0" y="32"/>
                    <a:pt x="0" y="6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69000" y="5417280"/>
              <a:ext cx="48960" cy="2556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0"/>
                  </a:moveTo>
                  <a:cubicBezTo>
                    <a:pt x="12" y="4"/>
                    <a:pt x="29" y="1"/>
                    <a:pt x="36" y="12"/>
                  </a:cubicBezTo>
                  <a:cubicBezTo>
                    <a:pt x="49" y="32"/>
                    <a:pt x="41" y="30"/>
                    <a:pt x="54" y="3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851440" y="5462640"/>
            <a:ext cx="4284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4440" y="5427720"/>
            <a:ext cx="54000" cy="5400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84920" y="5427720"/>
            <a:ext cx="15840" cy="4428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40280" y="5481720"/>
            <a:ext cx="38160" cy="4896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73760" y="5491080"/>
            <a:ext cx="49320" cy="2700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94280" y="5345280"/>
            <a:ext cx="4464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310360"/>
            <a:ext cx="55800" cy="5364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27760" y="5310360"/>
            <a:ext cx="15840" cy="4428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84920" y="5364000"/>
            <a:ext cx="38160" cy="4932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16600" y="5373720"/>
            <a:ext cx="49320" cy="2700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83200" y="5477040"/>
            <a:ext cx="44640" cy="37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4760" y="5442120"/>
            <a:ext cx="55440" cy="5364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4880" y="5442120"/>
            <a:ext cx="17640" cy="4428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72040" y="5495760"/>
            <a:ext cx="38160" cy="4932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04080" y="5505480"/>
            <a:ext cx="48960" cy="2700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38920" y="5554800"/>
            <a:ext cx="4428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1920" y="5521320"/>
            <a:ext cx="54000" cy="5256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72040" y="5521320"/>
            <a:ext cx="17640" cy="4284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7760" y="5573880"/>
            <a:ext cx="38160" cy="4896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61240" y="5584680"/>
            <a:ext cx="48960" cy="2412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5262480"/>
            <a:ext cx="2016000" cy="19548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74000" y="5365800"/>
            <a:ext cx="46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001000" y="5410080"/>
            <a:ext cx="4932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21800" y="5240160"/>
            <a:ext cx="41040" cy="195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29720" y="5262480"/>
            <a:ext cx="180720" cy="604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16840" y="5219640"/>
            <a:ext cx="44640" cy="7776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978680" y="5435640"/>
            <a:ext cx="160560" cy="5868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04320" y="5494320"/>
            <a:ext cx="9972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50320" y="5435640"/>
            <a:ext cx="2196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07480" y="5327640"/>
            <a:ext cx="11412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27920" y="5443560"/>
            <a:ext cx="64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56720" y="5487840"/>
            <a:ext cx="4896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77160" y="5318280"/>
            <a:ext cx="41400" cy="1936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85080" y="5340240"/>
            <a:ext cx="181080" cy="604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974000" y="5297400"/>
            <a:ext cx="42840" cy="7956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34400" y="5511960"/>
            <a:ext cx="158760" cy="6012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59680" y="5570640"/>
            <a:ext cx="1000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05680" y="5511960"/>
            <a:ext cx="2232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62840" y="5405400"/>
            <a:ext cx="11448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42240" y="5365800"/>
            <a:ext cx="46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69240" y="5410080"/>
            <a:ext cx="5076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90040" y="5240160"/>
            <a:ext cx="41040" cy="195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99400" y="5262480"/>
            <a:ext cx="181080" cy="604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85080" y="5219640"/>
            <a:ext cx="44640" cy="7776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46920" y="5435640"/>
            <a:ext cx="160560" cy="5868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74000" y="5494320"/>
            <a:ext cx="982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0000" y="5435640"/>
            <a:ext cx="2052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75720" y="5327640"/>
            <a:ext cx="11412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54760" y="5286240"/>
            <a:ext cx="5040" cy="651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81760" y="5332320"/>
            <a:ext cx="49320" cy="2880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02560" y="5160960"/>
            <a:ext cx="41400" cy="19512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59800" y="5356080"/>
            <a:ext cx="160200" cy="5904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85080" y="5415120"/>
            <a:ext cx="982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31080" y="5356080"/>
            <a:ext cx="22320" cy="5904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88240" y="5248440"/>
            <a:ext cx="114480" cy="5364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02600" y="5597640"/>
            <a:ext cx="49320" cy="48960"/>
          </a:xfrm>
          <a:custGeom>
            <a:avLst/>
            <a:gdLst>
              <a:gd name="textAreaLeft" fmla="*/ 11520 w 49320"/>
              <a:gd name="textAreaRight" fmla="*/ 37800 w 49320"/>
              <a:gd name="textAreaTop" fmla="*/ 5760 h 48960"/>
              <a:gd name="textAreaBottom" fmla="*/ 30600 h 4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10480" y="5184720"/>
            <a:ext cx="181080" cy="586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81920" y="5345280"/>
            <a:ext cx="64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10360" y="5389560"/>
            <a:ext cx="4932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31160" y="5219640"/>
            <a:ext cx="41400" cy="195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39080" y="5241960"/>
            <a:ext cx="181080" cy="6012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28000" y="5199120"/>
            <a:ext cx="42840" cy="7920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88400" y="5415120"/>
            <a:ext cx="158760" cy="5868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13680" y="5473800"/>
            <a:ext cx="982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059680" y="5415120"/>
            <a:ext cx="2232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15400" y="5307120"/>
            <a:ext cx="11592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41040" y="47736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retrograde’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otated XM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523880" y="1981080"/>
          <a:ext cx="746784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746784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245960" y="163188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Example from Albanese &amp; Minciacchi, 1983, JCN 216:406-420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0000" y="2590920"/>
            <a:ext cx="10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expt. label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delineation 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injection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labeling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7600" y="2666880"/>
            <a:ext cx="304920" cy="1526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7600" y="3024360"/>
            <a:ext cx="30492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7600" y="3201840"/>
            <a:ext cx="30492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00" y="3381480"/>
            <a:ext cx="304920" cy="152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7600" y="2844720"/>
            <a:ext cx="304920" cy="15264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1:18:11Z</dcterms:created>
  <dc:creator>Gully Burns</dc:creator>
  <dc:description/>
  <dc:language>en-US</dc:language>
  <cp:lastModifiedBy>Gully APC Burns</cp:lastModifiedBy>
  <dcterms:modified xsi:type="dcterms:W3CDTF">2006-12-01T19:59:37Z</dcterms:modified>
  <cp:revision>160</cp:revision>
  <dc:subject/>
  <dc:title>The management of Neuroanatomical Knowledge</dc:title>
</cp:coreProperties>
</file>